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12.jpeg" ContentType="image/jpeg"/>
  <Override PartName="/ppt/media/image10.jpeg" ContentType="image/jpeg"/>
  <Override PartName="/ppt/media/image25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26.jpeg" ContentType="image/jpeg"/>
  <Override PartName="/ppt/media/image5.gif" ContentType="image/gif"/>
  <Override PartName="/ppt/media/image14.jpeg" ContentType="image/jpeg"/>
  <Override PartName="/ppt/media/image11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3.jpeg" ContentType="image/jpeg"/>
  <Override PartName="/ppt/media/image3.gif" ContentType="image/gif"/>
  <Override PartName="/ppt/media/image18.png" ContentType="image/png"/>
  <Override PartName="/ppt/media/image15.jpeg" ContentType="image/jpeg"/>
  <Override PartName="/ppt/media/image17.jpeg" ContentType="image/jpeg"/>
  <Override PartName="/ppt/media/image1.png" ContentType="image/png"/>
  <Override PartName="/ppt/media/image4.gif" ContentType="image/gif"/>
  <Override PartName="/ppt/media/image22.jpeg" ContentType="image/jpeg"/>
  <Override PartName="/ppt/media/image27.gif" ContentType="image/gif"/>
  <Override PartName="/ppt/media/image2.png" ContentType="image/png"/>
  <Override PartName="/ppt/media/image6.wmf" ContentType="image/x-wmf"/>
  <Override PartName="/ppt/media/image19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2854-4F1A-473E-A62B-6A441B04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41B-067A-49FF-A4CF-67B4ABA1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93B-0B52-4A31-A058-946D0012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E447-59DE-4AB9-9575-E3C45F80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DCA7-1F8D-461D-AB78-9DE85DD1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45FE-5DF1-4D49-A97A-9F7A63AE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F0F-0EFF-4040-AD9B-7E1C929C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2115-A96F-4DBC-8456-B2B01E09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D7D1-BC2A-4B62-9894-1D9ED4FF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3F0E-DC80-4517-AED7-8BA2F9B1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B6D2-A808-4019-B7F2-B5112BDF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ECAD-B426-426A-808E-03CE82BC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7BB5-8E81-49D4-B3EE-9A1CD7E7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BBCF-2F5F-4584-9C99-B1DF387B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134B-07A8-4E8C-84CB-B4DD351E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443D-9C40-474E-BD46-820C7853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623DE-EFF3-4696-99BD-DA8C4ACB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FFB-43B5-48B4-A6DF-D4204CCE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D57AB-021C-4A9D-9B3D-1B6253B3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F84AF-0DB3-44AB-9D01-3F479DDE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F0E94-5BEE-49A3-85D9-61DAE002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7FDCE-687B-4E76-B29B-C391D600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C9864-B124-4481-AF58-4D68A8C7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A33BA-6F94-4F2D-BB50-3A4BE981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721A3-4A13-4031-B749-36C76A95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1B40F-EBA9-48F0-98CA-9BB1AB55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D2BCA-6D50-49EF-BF14-8CCAD26A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2E08B-3778-49C0-BF4F-852AD0F6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EBE4-B3A2-4A37-B6DE-C92A6034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B2429-316F-4341-891C-CC31FA47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61B00-9ECE-42A1-BB42-4E5A4C35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3FDF5-1E4A-4683-94AB-467E9BBC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05A32-CC36-4BD3-A88B-0C1253E1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4AA77-A93E-42C1-BE4A-8340B93E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52A7F-3DBF-4669-A997-EAF6C5C9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ACFB0-768F-4276-BA89-6B2678BF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1FD88-CC11-45E0-B14F-CDE27758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78CF8-4BAF-4C48-92EF-B83EB399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89896-187E-4479-96C2-17BB7E0D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612-FC2A-4FA5-9722-9E0E5021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EEEFF-0A40-4DE6-B3EA-578868BC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C1432-624E-40BB-B8F4-7F92621B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3ED31-5AC4-4E58-BDE7-C6946D62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AF877-F0E6-42F8-9842-68C36F41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2CEFB-441B-459D-9237-C2B366BC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CC2E5-A4BF-4700-8D4C-FA783510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5ED72-BADE-4B26-84D8-3AE4D403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B8304-E065-4017-AB9B-0EE69DB9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728B0-F497-40A8-AD3B-91791573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A93EE-AF0D-4A77-BA49-FACE94BF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29E-C922-4E55-B0A4-4D440178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5D2DF-59F1-41FB-A794-10F0F9A9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6F225-21D5-43AE-93FE-9CC3FF68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4F681-9569-4FE5-A333-AB809CCC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DC3D5-8F37-48FE-ABCF-0D389AC0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4E843-034D-44F6-B0BA-F7571ADE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ED620-9755-4BEB-BB5B-874A60B4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FA1EB-8702-4663-AB5C-36192D9C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082FF-CD26-48A9-B6A4-A9482542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E1507-9816-4893-9D6E-5B1C522B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2115F-F3FB-4012-8162-C3B241EC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C31-B200-462B-805C-5EE9F8D2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1F11C-635A-4F79-89CA-55870E10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B396E-A4A8-428A-9D3F-13D91607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F2FD3-8538-4659-9367-1C8C7256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7541A-D6C9-4323-ADB5-EC1319A8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504D6-C18C-46E3-A965-A640DEA8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80566-9F07-4D3F-AE25-71FABB20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3F242-65B3-4531-AEDA-8E371F0A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D7E9D-8B97-4852-941F-7558DCFC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69414-C758-4F3D-8C68-33842F32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1A853-1466-4FD2-AE22-0751C558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D61-1320-499A-A96B-CF49DFB1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B2373-1969-4863-9A31-26331CA6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54BEB-8D34-46BF-86DD-749972F5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11A93-44FB-4479-886A-8B5E92D0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86A40-F706-4766-8BDD-37633394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6AF98-E923-4D63-BBC1-25711CFD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A5A66-E9D8-48EC-99E6-E1FB7FDF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ABB6A-FB0C-4460-854B-F88795D3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9186C-3F5B-4493-85EC-C131E65B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2C2E2-AA39-4C09-B648-3A4772E6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FA35A-BE2B-4B55-93A9-5FED105C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B06-EA38-409E-A2D9-BD11103A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13EAA-B9AF-4369-A0F9-3EF6876B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BC343-70F3-4D50-A88F-C0A44723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29C78-5769-48EC-8909-36F30904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C8E57-F506-4197-81D7-81DE4E0C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5570D-E8BA-470F-AF6A-5A2D4613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833F2-A7C1-4FF6-8831-9868BC6C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A526E-6B9E-4777-804C-3457A740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5FB87-1B4F-4EB6-B207-543F2308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28E3E-F299-4324-B1D4-96D45C5C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BBE57-2CB6-4ECA-9E5F-5F3AEB42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17A-4F39-4B0A-B850-D0426857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41920-52A1-487F-B657-B919B6C7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4BDC5-ED19-4F12-92D0-0927A54D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0E94A-2B75-4D36-AE40-2F825934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27BC8-30F9-404F-90F0-3BE2D203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6254F-932D-499C-A3EA-A3C5B2D7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7AE00-2F95-4859-AD14-0EB77B62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5FB9F-BD68-4C28-AEA2-8A56FE7F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79B38-4736-4DF7-96D5-48D66BBE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D2F93-08B3-4740-9EE8-9D53E095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5FB97-7184-41B2-B643-E74FCDC4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AFACD-4535-4AA6-A4A3-B903461C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E90A4-FE25-45DA-A7CF-28048A3B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DCD5F-3306-4FCE-9EF6-FA586F4C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13618-6FA5-476C-A21F-B8059DBE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F1D7A-0634-41A3-99AF-4833AE6E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D0DAF-A269-4AB1-8D39-DED16C93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C1FE9-A05E-4D1F-9998-9CD321AB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74385-6966-4410-B675-A380D308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D879B-07FC-4224-BD5E-E31316A8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2AD95-AFB4-4285-84F9-CA6CF0B1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ED794-A281-42DC-83BA-69D13251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C12A7-91D2-44A5-A2AD-624CAD91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51FCD-7B13-4CC8-A291-9EA63F62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F7800-70E0-47AC-BE81-5532F4C1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BDA86-8A3C-47F1-B24F-231CBB8C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4BE4C-6E3D-450A-A2A2-D6883410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05F70-AC8E-439B-8A11-F9E6AE85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61759-6CA3-4E26-83F9-6845EB69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2FB4B-43CA-471B-B8DA-B8BAD84C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F9BDE-7C29-4BCA-9DDB-AC9652CC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8554C-9125-40F1-B4F3-A06EF661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09C65-5E45-4E8F-AADC-E808EB84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336A8-BD1F-4B40-BEAC-BE3E9788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DE425-5AAE-4099-9560-4939F00B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1D171-A96A-45DA-8AE0-23D40F70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402CC-79AA-4151-B887-36B5F8D9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FC788-D646-4707-B0E9-D51CFB32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915CA-9C51-432A-9B8D-7198AB70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FF351-55D9-4853-9EB6-289CF382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26E41-DAF9-4505-BF77-84453B73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E885E-9D6E-49FA-9151-9353E019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A8673-8F1E-4C13-83FF-22EE3025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49A4D-74D0-42CA-94DF-E5F63F8D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51C25-3EA8-4A51-836A-3CDF82B9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EC4DF-F00F-43F5-93EB-16998551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A5FAD-163A-4DAD-B2D0-53560EC3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DDD4A-0961-41D5-82B5-01F33950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1F762-629F-4411-9BE7-9F8D62BE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96829-9035-459F-A5DB-B353C48E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组合 37889"/>
          <p:cNvGrpSpPr/>
          <p:nvPr/>
        </p:nvGrpSpPr>
        <p:grpSpPr>
          <a:xfrm>
            <a:off x="1658520" y="1200240"/>
            <a:ext cx="6837840" cy="2399760"/>
            <a:chOff x="1658520" y="1200240"/>
            <a:chExt cx="6837840" cy="2399760"/>
          </a:xfrm>
        </p:grpSpPr>
        <p:sp>
          <p:nvSpPr>
            <p:cNvPr id="482" name="椭圆 37890"/>
            <p:cNvSpPr/>
            <p:nvPr/>
          </p:nvSpPr>
          <p:spPr>
            <a:xfrm flipH="1">
              <a:off x="697212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椭圆 37891"/>
            <p:cNvSpPr/>
            <p:nvPr/>
          </p:nvSpPr>
          <p:spPr>
            <a:xfrm flipH="1">
              <a:off x="518148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椭圆 37892"/>
            <p:cNvSpPr/>
            <p:nvPr/>
          </p:nvSpPr>
          <p:spPr>
            <a:xfrm flipH="1">
              <a:off x="3390120" y="1200240"/>
              <a:ext cx="152388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椭圆 37893"/>
            <p:cNvSpPr/>
            <p:nvPr/>
          </p:nvSpPr>
          <p:spPr>
            <a:xfrm flipH="1">
              <a:off x="339012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椭圆 37894"/>
            <p:cNvSpPr/>
            <p:nvPr/>
          </p:nvSpPr>
          <p:spPr>
            <a:xfrm flipH="1">
              <a:off x="165816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椭圆 37895"/>
            <p:cNvSpPr/>
            <p:nvPr/>
          </p:nvSpPr>
          <p:spPr>
            <a:xfrm flipH="1">
              <a:off x="6972120" y="2457360"/>
              <a:ext cx="152424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4B1E-A250-43BD-A4DB-D9F283256D4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7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9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CC40-7701-400B-B7FD-2DDBA1D16CA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10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11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5B91-866F-420B-AD7D-22B49AEE818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13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14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08F3-CC4D-43FE-BDF4-F78F20FA4CC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16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17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3407-7A44-4131-ABFC-6486D9886F2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19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20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ED19-94F4-414E-89AE-1520E32EA6B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3686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728640"/>
          </a:xfrm>
          <a:prstGeom prst="rect">
            <a:avLst/>
          </a:prstGeom>
          <a:ln w="0">
            <a:noFill/>
          </a:ln>
        </p:spPr>
      </p:pic>
      <p:grpSp>
        <p:nvGrpSpPr>
          <p:cNvPr id="38" name="组合 36866"/>
          <p:cNvGrpSpPr/>
          <p:nvPr/>
        </p:nvGrpSpPr>
        <p:grpSpPr>
          <a:xfrm>
            <a:off x="610920" y="3975120"/>
            <a:ext cx="7615440" cy="830160"/>
            <a:chOff x="610920" y="3975120"/>
            <a:chExt cx="7615440" cy="830160"/>
          </a:xfrm>
        </p:grpSpPr>
        <p:sp>
          <p:nvSpPr>
            <p:cNvPr id="39" name="椭圆 36867"/>
            <p:cNvSpPr/>
            <p:nvPr/>
          </p:nvSpPr>
          <p:spPr>
            <a:xfrm flipH="1">
              <a:off x="4407840" y="3975120"/>
              <a:ext cx="11048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椭圆 36868"/>
            <p:cNvSpPr/>
            <p:nvPr/>
          </p:nvSpPr>
          <p:spPr>
            <a:xfrm flipH="1">
              <a:off x="7123320" y="3975120"/>
              <a:ext cx="11030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椭圆 36869"/>
            <p:cNvSpPr/>
            <p:nvPr/>
          </p:nvSpPr>
          <p:spPr>
            <a:xfrm flipH="1">
              <a:off x="610560" y="3976200"/>
              <a:ext cx="1103400" cy="82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椭圆 36870"/>
            <p:cNvSpPr/>
            <p:nvPr/>
          </p:nvSpPr>
          <p:spPr>
            <a:xfrm flipH="1">
              <a:off x="586368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椭圆 36871"/>
            <p:cNvSpPr/>
            <p:nvPr/>
          </p:nvSpPr>
          <p:spPr>
            <a:xfrm flipH="1">
              <a:off x="189792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45AA-8366-4B48-B0F9-EAFEF97B395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22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23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8604-447B-4AE9-B005-099734814CA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25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26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7E7E-342B-456E-B83F-3720175530A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dt" idx="28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ftr" idx="29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1BD5-E7C4-49B1-BDE3-34508578AE2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9E7E-01FA-4D78-B2BD-89C88AA4C8C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3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3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122B-6ED6-40A6-AA2B-EE0C4B11CED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文本框 2"/>
          <p:cNvSpPr/>
          <p:nvPr/>
        </p:nvSpPr>
        <p:spPr>
          <a:xfrm>
            <a:off x="1792440" y="1635120"/>
            <a:ext cx="1790640" cy="3988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汉语拼音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6"/>
          <p:cNvSpPr/>
          <p:nvPr/>
        </p:nvSpPr>
        <p:spPr>
          <a:xfrm>
            <a:off x="2388240" y="2030400"/>
            <a:ext cx="419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767ff"/>
                </a:solidFill>
                <a:latin typeface="Arial"/>
              </a:rPr>
              <a:t>ang  eng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6767ff"/>
                </a:solidFill>
                <a:latin typeface="Arial"/>
              </a:rPr>
              <a:t>ing  o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图片 1" descr="W020140704361215100198"/>
          <p:cNvPicPr/>
          <p:nvPr/>
        </p:nvPicPr>
        <p:blipFill>
          <a:blip r:embed="rId1"/>
          <a:stretch/>
        </p:blipFill>
        <p:spPr>
          <a:xfrm>
            <a:off x="471600" y="136440"/>
            <a:ext cx="3076560" cy="2051280"/>
          </a:xfrm>
          <a:prstGeom prst="rect">
            <a:avLst/>
          </a:prstGeom>
          <a:ln w="0">
            <a:noFill/>
          </a:ln>
        </p:spPr>
      </p:pic>
      <p:pic>
        <p:nvPicPr>
          <p:cNvPr id="1001" name="图片 2" descr="58PIC8658PICgC8_1024"/>
          <p:cNvPicPr/>
          <p:nvPr/>
        </p:nvPicPr>
        <p:blipFill>
          <a:blip r:embed="rId2"/>
          <a:srcRect l="0" t="2786" r="4176" b="6577"/>
          <a:stretch/>
        </p:blipFill>
        <p:spPr>
          <a:xfrm>
            <a:off x="471600" y="2486160"/>
            <a:ext cx="2646360" cy="2222280"/>
          </a:xfrm>
          <a:prstGeom prst="rect">
            <a:avLst/>
          </a:prstGeom>
          <a:ln w="0">
            <a:noFill/>
          </a:ln>
        </p:spPr>
      </p:pic>
      <p:pic>
        <p:nvPicPr>
          <p:cNvPr id="1002" name="图片 3" descr="5082d055h639037c79d39"/>
          <p:cNvPicPr/>
          <p:nvPr/>
        </p:nvPicPr>
        <p:blipFill>
          <a:blip r:embed="rId3"/>
          <a:stretch/>
        </p:blipFill>
        <p:spPr>
          <a:xfrm>
            <a:off x="5403960" y="996840"/>
            <a:ext cx="3444840" cy="2975040"/>
          </a:xfrm>
          <a:prstGeom prst="rect">
            <a:avLst/>
          </a:prstGeom>
          <a:ln w="0">
            <a:noFill/>
          </a:ln>
        </p:spPr>
      </p:pic>
      <p:sp>
        <p:nvSpPr>
          <p:cNvPr id="1003" name="Text Box 7"/>
          <p:cNvSpPr/>
          <p:nvPr/>
        </p:nvSpPr>
        <p:spPr>
          <a:xfrm>
            <a:off x="3816360" y="282600"/>
            <a:ext cx="2338200" cy="947160"/>
          </a:xfrm>
          <a:prstGeom prst="rect">
            <a:avLst/>
          </a:prstGeom>
          <a:solidFill>
            <a:srgbClr val="f5f5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8ec"/>
                </a:solidFill>
                <a:latin typeface="Century Gothic"/>
                <a:ea typeface="黑体"/>
              </a:rPr>
              <a:t>yóu yǒ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8ec"/>
                </a:solidFill>
                <a:latin typeface="Century Gothic"/>
                <a:ea typeface="黑体"/>
              </a:rPr>
              <a:t>游 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7"/>
          <p:cNvSpPr/>
          <p:nvPr/>
        </p:nvSpPr>
        <p:spPr>
          <a:xfrm>
            <a:off x="2616120" y="2362320"/>
            <a:ext cx="2787840" cy="947160"/>
          </a:xfrm>
          <a:prstGeom prst="rect">
            <a:avLst/>
          </a:prstGeom>
          <a:solidFill>
            <a:srgbClr val="f5f5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8ec"/>
                </a:solidFill>
                <a:latin typeface="Century Gothic"/>
                <a:ea typeface="黑体"/>
              </a:rPr>
              <a:t>qí zì xíng ch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8ec"/>
                </a:solidFill>
                <a:latin typeface="Century Gothic"/>
                <a:ea typeface="黑体"/>
              </a:rPr>
              <a:t>骑自行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7"/>
          <p:cNvSpPr/>
          <p:nvPr/>
        </p:nvSpPr>
        <p:spPr>
          <a:xfrm>
            <a:off x="4933800" y="4014720"/>
            <a:ext cx="3432240" cy="947160"/>
          </a:xfrm>
          <a:prstGeom prst="rect">
            <a:avLst/>
          </a:prstGeom>
          <a:solidFill>
            <a:srgbClr val="f5f5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8ec"/>
                </a:solidFill>
                <a:latin typeface="Century Gothic"/>
                <a:ea typeface="黑体"/>
              </a:rPr>
              <a:t>dǎ pīng pāng qiú</a:t>
            </a:r>
            <a:r>
              <a:rPr b="0" lang="zh-CN" sz="2800" spc="-1" strike="noStrike">
                <a:solidFill>
                  <a:srgbClr val="d9d8ec"/>
                </a:solidFill>
                <a:latin typeface="Century Gothic"/>
                <a:ea typeface="黑体"/>
              </a:rPr>
              <a:t>打乒乓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Text Box 6"/>
          <p:cNvSpPr/>
          <p:nvPr/>
        </p:nvSpPr>
        <p:spPr>
          <a:xfrm>
            <a:off x="2416320" y="3643200"/>
            <a:ext cx="2082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Century Gothic"/>
              </a:rPr>
              <a:t>dà xià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7"/>
          <p:cNvSpPr/>
          <p:nvPr/>
        </p:nvSpPr>
        <p:spPr>
          <a:xfrm>
            <a:off x="77040" y="3643200"/>
            <a:ext cx="1939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Century Gothic"/>
              </a:rPr>
              <a:t>lǎo y</a:t>
            </a:r>
            <a:r>
              <a:rPr b="1" lang="en-US" sz="3500" spc="-1" strike="noStrike">
                <a:solidFill>
                  <a:srgbClr val="ff0000"/>
                </a:solidFill>
                <a:latin typeface="Century Gothic"/>
                <a:ea typeface="隶书"/>
              </a:rPr>
              <a:t>ī</a:t>
            </a:r>
            <a:r>
              <a:rPr b="1" lang="en-US" sz="3500" spc="-1" strike="noStrike">
                <a:solidFill>
                  <a:srgbClr val="ff0000"/>
                </a:solidFill>
                <a:latin typeface="Century Gothic"/>
              </a:rPr>
              <a:t>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9"/>
          <p:cNvSpPr/>
          <p:nvPr/>
        </p:nvSpPr>
        <p:spPr>
          <a:xfrm>
            <a:off x="4563360" y="3643200"/>
            <a:ext cx="176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Century Gothic"/>
              </a:rPr>
              <a:t>mìfē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8"/>
          <p:cNvSpPr/>
          <p:nvPr/>
        </p:nvSpPr>
        <p:spPr>
          <a:xfrm>
            <a:off x="6456960" y="3643200"/>
            <a:ext cx="2521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Century Gothic"/>
              </a:rPr>
              <a:t>xióng mā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图片 6" descr="270150239ekw"/>
          <p:cNvPicPr/>
          <p:nvPr/>
        </p:nvPicPr>
        <p:blipFill>
          <a:blip r:embed="rId1"/>
          <a:stretch/>
        </p:blipFill>
        <p:spPr>
          <a:xfrm>
            <a:off x="7236000" y="977760"/>
            <a:ext cx="1768320" cy="1563840"/>
          </a:xfrm>
          <a:prstGeom prst="rect">
            <a:avLst/>
          </a:prstGeom>
          <a:ln w="0">
            <a:noFill/>
          </a:ln>
        </p:spPr>
      </p:pic>
      <p:pic>
        <p:nvPicPr>
          <p:cNvPr id="1011" name="图片 7" descr="20121230184152107"/>
          <p:cNvPicPr/>
          <p:nvPr/>
        </p:nvPicPr>
        <p:blipFill>
          <a:blip r:embed="rId2"/>
          <a:stretch/>
        </p:blipFill>
        <p:spPr>
          <a:xfrm>
            <a:off x="5492880" y="533520"/>
            <a:ext cx="1482480" cy="1871640"/>
          </a:xfrm>
          <a:prstGeom prst="rect">
            <a:avLst/>
          </a:prstGeom>
          <a:ln w="0">
            <a:noFill/>
          </a:ln>
        </p:spPr>
      </p:pic>
      <p:pic>
        <p:nvPicPr>
          <p:cNvPr id="1012" name="图片 8" descr="2008030400010995"/>
          <p:cNvPicPr/>
          <p:nvPr/>
        </p:nvPicPr>
        <p:blipFill>
          <a:blip r:embed="rId3"/>
          <a:stretch/>
        </p:blipFill>
        <p:spPr>
          <a:xfrm>
            <a:off x="200160" y="885960"/>
            <a:ext cx="1728720" cy="1560240"/>
          </a:xfrm>
          <a:prstGeom prst="rect">
            <a:avLst/>
          </a:prstGeom>
          <a:ln w="0">
            <a:noFill/>
          </a:ln>
        </p:spPr>
      </p:pic>
      <p:pic>
        <p:nvPicPr>
          <p:cNvPr id="1013" name="图片 9" descr="234679-14040Q3241341"/>
          <p:cNvPicPr/>
          <p:nvPr/>
        </p:nvPicPr>
        <p:blipFill>
          <a:blip r:embed="rId4"/>
          <a:srcRect l="8555" t="1362" r="7469" b="4082"/>
          <a:stretch/>
        </p:blipFill>
        <p:spPr>
          <a:xfrm>
            <a:off x="2408400" y="533520"/>
            <a:ext cx="2228760" cy="1801800"/>
          </a:xfrm>
          <a:prstGeom prst="rect">
            <a:avLst/>
          </a:prstGeom>
          <a:ln w="0">
            <a:noFill/>
          </a:ln>
        </p:spPr>
      </p:pic>
      <p:sp>
        <p:nvSpPr>
          <p:cNvPr id="1014" name="文本框 10"/>
          <p:cNvSpPr/>
          <p:nvPr/>
        </p:nvSpPr>
        <p:spPr>
          <a:xfrm>
            <a:off x="173160" y="120600"/>
            <a:ext cx="14270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连一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312 -0.03449 L -0.23698 -0.26551 E">
                                      <p:cBhvr>
                                        <p:cTn id="158" dur="2000" fill="hold"/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46 -0.02384 L 0.56684 -0.26551 E">
                                      <p:cBhvr>
                                        <p:cTn id="162" dur="2000" fill="hold"/>
                                        <p:tgtEl>
                                          <p:spTgt spid="10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286 -0.060169 L 0.249966 -0.259699 E">
                                      <p:cBhvr>
                                        <p:cTn id="166" dur="2000" fill="hold"/>
                                        <p:tgtEl>
                                          <p:spTgt spid="10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77 0.00764 L -0.42309 -0.26551 E">
                                      <p:cBhvr>
                                        <p:cTn id="170" dur="2000" fill="hold"/>
                                        <p:tgtEl>
                                          <p:spTgt spid="10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Picture 4" descr=""/>
          <p:cNvPicPr/>
          <p:nvPr/>
        </p:nvPicPr>
        <p:blipFill>
          <a:blip r:embed="rId1"/>
          <a:stretch/>
        </p:blipFill>
        <p:spPr>
          <a:xfrm>
            <a:off x="579600" y="111240"/>
            <a:ext cx="3662280" cy="4922640"/>
          </a:xfrm>
          <a:prstGeom prst="rect">
            <a:avLst/>
          </a:prstGeom>
          <a:ln w="0">
            <a:noFill/>
          </a:ln>
        </p:spPr>
      </p:pic>
      <p:pic>
        <p:nvPicPr>
          <p:cNvPr id="1016" name="图片 1" descr="090421170085d35b9d7a981773"/>
          <p:cNvPicPr/>
          <p:nvPr/>
        </p:nvPicPr>
        <p:blipFill>
          <a:blip r:embed="rId2"/>
          <a:stretch/>
        </p:blipFill>
        <p:spPr>
          <a:xfrm>
            <a:off x="6708600" y="270684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17" name="图片 2" descr="df"/>
          <p:cNvPicPr/>
          <p:nvPr/>
        </p:nvPicPr>
        <p:blipFill>
          <a:blip r:embed="rId3"/>
          <a:srcRect l="18811" t="16989" r="17051" b="5954"/>
          <a:stretch/>
        </p:blipFill>
        <p:spPr>
          <a:xfrm>
            <a:off x="4545000" y="1316160"/>
            <a:ext cx="19908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文本框 1"/>
          <p:cNvSpPr/>
          <p:nvPr/>
        </p:nvSpPr>
        <p:spPr>
          <a:xfrm>
            <a:off x="963720" y="870120"/>
            <a:ext cx="237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儿歌大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2"/>
          <p:cNvSpPr/>
          <p:nvPr/>
        </p:nvSpPr>
        <p:spPr>
          <a:xfrm>
            <a:off x="1349280" y="1571760"/>
            <a:ext cx="599436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两只羊互不相让，都想自己先过桥，结果双双掉进了河里，这让我们明白了</a:t>
            </a:r>
            <a:r>
              <a:rPr b="0" lang="zh-CN" sz="2800" spc="-1" strike="noStrike">
                <a:solidFill>
                  <a:srgbClr val="ff66ff"/>
                </a:solidFill>
                <a:latin typeface="楷体"/>
                <a:ea typeface="楷体"/>
              </a:rPr>
              <a:t>要学会谦让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文本框 10"/>
          <p:cNvSpPr/>
          <p:nvPr/>
        </p:nvSpPr>
        <p:spPr>
          <a:xfrm>
            <a:off x="173160" y="120600"/>
            <a:ext cx="14270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会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图片 1" descr="车"/>
          <p:cNvPicPr/>
          <p:nvPr/>
        </p:nvPicPr>
        <p:blipFill>
          <a:blip r:embed="rId1"/>
          <a:stretch/>
        </p:blipFill>
        <p:spPr>
          <a:xfrm>
            <a:off x="1001880" y="2144880"/>
            <a:ext cx="2938320" cy="2057400"/>
          </a:xfrm>
          <a:prstGeom prst="rect">
            <a:avLst/>
          </a:prstGeom>
          <a:ln w="0">
            <a:noFill/>
          </a:ln>
        </p:spPr>
      </p:pic>
      <p:sp>
        <p:nvSpPr>
          <p:cNvPr id="1022" name="文本框 2"/>
          <p:cNvSpPr/>
          <p:nvPr/>
        </p:nvSpPr>
        <p:spPr>
          <a:xfrm>
            <a:off x="1881360" y="1305000"/>
            <a:ext cx="118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3" name="图片 3" descr="615521905_2035759759.220x220"/>
          <p:cNvPicPr/>
          <p:nvPr/>
        </p:nvPicPr>
        <p:blipFill>
          <a:blip r:embed="rId2"/>
          <a:srcRect l="0" t="20172" r="1260" b="22375"/>
          <a:stretch/>
        </p:blipFill>
        <p:spPr>
          <a:xfrm>
            <a:off x="4246560" y="1359000"/>
            <a:ext cx="2111400" cy="1230120"/>
          </a:xfrm>
          <a:prstGeom prst="rect">
            <a:avLst/>
          </a:prstGeom>
          <a:ln w="0">
            <a:noFill/>
          </a:ln>
        </p:spPr>
      </p:pic>
      <p:pic>
        <p:nvPicPr>
          <p:cNvPr id="1024" name="图片 4" descr="2009351029346_2"/>
          <p:cNvPicPr/>
          <p:nvPr/>
        </p:nvPicPr>
        <p:blipFill>
          <a:blip r:embed="rId3"/>
          <a:srcRect l="2461" t="8664" r="4562" b="4664"/>
          <a:stretch/>
        </p:blipFill>
        <p:spPr>
          <a:xfrm>
            <a:off x="4054320" y="3033720"/>
            <a:ext cx="2043360" cy="128412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6" descr="10080661"/>
          <p:cNvPicPr/>
          <p:nvPr/>
        </p:nvPicPr>
        <p:blipFill>
          <a:blip r:embed="rId4"/>
          <a:stretch/>
        </p:blipFill>
        <p:spPr>
          <a:xfrm>
            <a:off x="6459480" y="3483000"/>
            <a:ext cx="1406520" cy="11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文本框 2"/>
          <p:cNvSpPr/>
          <p:nvPr/>
        </p:nvSpPr>
        <p:spPr>
          <a:xfrm>
            <a:off x="1881360" y="1305000"/>
            <a:ext cx="169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á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图片 3" descr="羊"/>
          <p:cNvPicPr/>
          <p:nvPr/>
        </p:nvPicPr>
        <p:blipFill>
          <a:blip r:embed="rId1"/>
          <a:stretch/>
        </p:blipFill>
        <p:spPr>
          <a:xfrm>
            <a:off x="1174680" y="2370240"/>
            <a:ext cx="2874960" cy="201276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4" descr="090421170085d35b9d7a981773"/>
          <p:cNvPicPr/>
          <p:nvPr/>
        </p:nvPicPr>
        <p:blipFill>
          <a:blip r:embed="rId2"/>
          <a:stretch/>
        </p:blipFill>
        <p:spPr>
          <a:xfrm>
            <a:off x="4245120" y="1454040"/>
            <a:ext cx="2832120" cy="28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文本框 2"/>
          <p:cNvSpPr/>
          <p:nvPr/>
        </p:nvSpPr>
        <p:spPr>
          <a:xfrm>
            <a:off x="1265400" y="1320840"/>
            <a:ext cx="169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ǒ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图片 1" descr="走"/>
          <p:cNvPicPr/>
          <p:nvPr/>
        </p:nvPicPr>
        <p:blipFill>
          <a:blip r:embed="rId1"/>
          <a:stretch/>
        </p:blipFill>
        <p:spPr>
          <a:xfrm>
            <a:off x="379440" y="2187720"/>
            <a:ext cx="3467160" cy="2427120"/>
          </a:xfrm>
          <a:prstGeom prst="rect">
            <a:avLst/>
          </a:prstGeom>
          <a:ln w="0">
            <a:noFill/>
          </a:ln>
        </p:spPr>
      </p:pic>
      <p:sp>
        <p:nvSpPr>
          <p:cNvPr id="1031" name="文本框 6"/>
          <p:cNvSpPr/>
          <p:nvPr/>
        </p:nvSpPr>
        <p:spPr>
          <a:xfrm>
            <a:off x="3243240" y="1320840"/>
            <a:ext cx="169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走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图片 7" descr="0250010058"/>
          <p:cNvPicPr/>
          <p:nvPr/>
        </p:nvPicPr>
        <p:blipFill>
          <a:blip r:embed="rId2"/>
          <a:srcRect l="0" t="0" r="1685" b="3822"/>
          <a:stretch/>
        </p:blipFill>
        <p:spPr>
          <a:xfrm>
            <a:off x="3846600" y="2298600"/>
            <a:ext cx="1222200" cy="2205000"/>
          </a:xfrm>
          <a:prstGeom prst="rect">
            <a:avLst/>
          </a:prstGeom>
          <a:ln w="0">
            <a:noFill/>
          </a:ln>
        </p:spPr>
      </p:pic>
      <p:sp>
        <p:nvSpPr>
          <p:cNvPr id="1033" name="文本框 9"/>
          <p:cNvSpPr/>
          <p:nvPr/>
        </p:nvSpPr>
        <p:spPr>
          <a:xfrm>
            <a:off x="5721480" y="1260360"/>
            <a:ext cx="169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图片 10" descr="也"/>
          <p:cNvPicPr/>
          <p:nvPr/>
        </p:nvPicPr>
        <p:blipFill>
          <a:blip r:embed="rId3"/>
          <a:stretch/>
        </p:blipFill>
        <p:spPr>
          <a:xfrm>
            <a:off x="5168880" y="2187720"/>
            <a:ext cx="2797200" cy="195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Text Box 10"/>
          <p:cNvSpPr/>
          <p:nvPr/>
        </p:nvSpPr>
        <p:spPr>
          <a:xfrm>
            <a:off x="4896000" y="2540160"/>
            <a:ext cx="360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宋体"/>
              </a:rPr>
              <a:t>pīn yī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6"/>
          <p:cNvSpPr/>
          <p:nvPr/>
        </p:nvSpPr>
        <p:spPr>
          <a:xfrm>
            <a:off x="4960800" y="153360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宋体"/>
              </a:rPr>
              <a:t>dān xī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7"/>
          <p:cNvSpPr/>
          <p:nvPr/>
        </p:nvSpPr>
        <p:spPr>
          <a:xfrm>
            <a:off x="5010120" y="367668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宋体"/>
              </a:rPr>
              <a:t>kùn ná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8"/>
          <p:cNvSpPr/>
          <p:nvPr/>
        </p:nvSpPr>
        <p:spPr>
          <a:xfrm>
            <a:off x="4896000" y="58752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宋体"/>
              </a:rPr>
              <a:t>shēn t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9"/>
          <p:cNvSpPr/>
          <p:nvPr/>
        </p:nvSpPr>
        <p:spPr>
          <a:xfrm>
            <a:off x="638280" y="1757520"/>
            <a:ext cx="41907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宋体"/>
              </a:rPr>
              <a:t>chūn tiā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23"/>
          <p:cNvSpPr/>
          <p:nvPr/>
        </p:nvSpPr>
        <p:spPr>
          <a:xfrm>
            <a:off x="1200240" y="374760"/>
            <a:ext cx="2895480" cy="1218960"/>
          </a:xfrm>
          <a:custGeom>
            <a:avLst/>
            <a:gdLst>
              <a:gd name="textAreaLeft" fmla="*/ 0 w 2895480"/>
              <a:gd name="textAreaRight" fmla="*/ 2895840 w 2895480"/>
              <a:gd name="textAreaTop" fmla="*/ 316800 h 1218960"/>
              <a:gd name="textAreaBottom" fmla="*/ 9021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拼一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图片 1" descr="002b5d98ga4bd579d5153&amp;690"/>
          <p:cNvPicPr/>
          <p:nvPr/>
        </p:nvPicPr>
        <p:blipFill>
          <a:blip r:embed="rId1"/>
          <a:stretch/>
        </p:blipFill>
        <p:spPr>
          <a:xfrm>
            <a:off x="1911240" y="2879640"/>
            <a:ext cx="164484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文本框 1"/>
          <p:cNvSpPr/>
          <p:nvPr/>
        </p:nvSpPr>
        <p:spPr>
          <a:xfrm>
            <a:off x="1041480" y="1319040"/>
            <a:ext cx="62942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妈妈坐在</a:t>
            </a:r>
            <a:r>
              <a:rPr b="1" lang="zh-CN" sz="2400" spc="-1" strike="noStrike">
                <a:solidFill>
                  <a:srgbClr val="00b0f0"/>
                </a:solidFill>
                <a:latin typeface="Arial"/>
                <a:ea typeface="宋体"/>
              </a:rPr>
              <a:t>床（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ang</a:t>
            </a:r>
            <a:r>
              <a:rPr b="1" lang="zh-CN" sz="2400" spc="-1" strike="noStrike">
                <a:solidFill>
                  <a:srgbClr val="00b0f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b0f0"/>
                </a:solidFill>
                <a:latin typeface="Arial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，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风（  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eng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窗户里吹进来，墙上的猫头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  <a:ea typeface="宋体"/>
              </a:rPr>
              <a:t>鹰（  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ing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挂</a:t>
            </a:r>
            <a:r>
              <a:rPr b="1" lang="zh-CN" sz="2400" spc="-1" strike="noStrike">
                <a:solidFill>
                  <a:srgbClr val="ffc000"/>
                </a:solidFill>
                <a:latin typeface="Arial"/>
                <a:ea typeface="宋体"/>
              </a:rPr>
              <a:t>钟（ 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ong</a:t>
            </a:r>
            <a:r>
              <a:rPr b="1" lang="zh-CN" sz="2400" spc="-1" strike="noStrike">
                <a:solidFill>
                  <a:srgbClr val="ffc000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ffc000"/>
                </a:solidFill>
                <a:latin typeface="Arial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向了八点，妈妈怀里的宝宝已经进入了梦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Text Box 22"/>
          <p:cNvSpPr/>
          <p:nvPr/>
        </p:nvSpPr>
        <p:spPr>
          <a:xfrm>
            <a:off x="1152720" y="423720"/>
            <a:ext cx="2431800" cy="1191240"/>
          </a:xfrm>
          <a:prstGeom prst="rect">
            <a:avLst/>
          </a:prstGeom>
          <a:solidFill>
            <a:srgbClr val="f5f5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9d8ec"/>
                </a:solidFill>
                <a:latin typeface="Century Gothic"/>
                <a:ea typeface="黑体"/>
              </a:rPr>
              <a:t>ya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22"/>
          <p:cNvSpPr/>
          <p:nvPr/>
        </p:nvSpPr>
        <p:spPr>
          <a:xfrm>
            <a:off x="4242600" y="852480"/>
            <a:ext cx="2861280" cy="1557000"/>
          </a:xfrm>
          <a:prstGeom prst="rect">
            <a:avLst/>
          </a:prstGeom>
          <a:solidFill>
            <a:srgbClr val="f5f5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000"/>
                </a:solidFill>
                <a:latin typeface="Century Gothic"/>
                <a:ea typeface="黑体"/>
              </a:rPr>
              <a:t>la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图片 2" descr="090421170085d35b9d7a981773"/>
          <p:cNvPicPr/>
          <p:nvPr/>
        </p:nvPicPr>
        <p:blipFill>
          <a:blip r:embed="rId1"/>
          <a:stretch/>
        </p:blipFill>
        <p:spPr>
          <a:xfrm>
            <a:off x="1698480" y="1619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952" name="图片 3" descr="0904211659ff53ce9ab1295481"/>
          <p:cNvPicPr/>
          <p:nvPr/>
        </p:nvPicPr>
        <p:blipFill>
          <a:blip r:embed="rId2"/>
          <a:stretch/>
        </p:blipFill>
        <p:spPr>
          <a:xfrm>
            <a:off x="5241960" y="253044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23"/>
          <p:cNvSpPr/>
          <p:nvPr/>
        </p:nvSpPr>
        <p:spPr>
          <a:xfrm>
            <a:off x="3431880" y="2827440"/>
            <a:ext cx="1881360" cy="1312920"/>
          </a:xfrm>
          <a:prstGeom prst="rect">
            <a:avLst/>
          </a:prstGeom>
          <a:solidFill>
            <a:srgbClr val="c2fff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0080"/>
                </a:solidFill>
                <a:latin typeface="Century Gothic"/>
              </a:rPr>
              <a:t>a</a:t>
            </a:r>
            <a:r>
              <a:rPr b="0" lang="en-US" sz="8000" spc="-1" strike="noStrike">
                <a:solidFill>
                  <a:srgbClr val="800080"/>
                </a:solidFill>
                <a:latin typeface="Arial"/>
              </a:rPr>
              <a:t>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Picture 5" descr="1trj22yc[1]"/>
          <p:cNvPicPr/>
          <p:nvPr/>
        </p:nvPicPr>
        <p:blipFill>
          <a:blip r:embed="rId1"/>
          <a:stretch/>
        </p:blipFill>
        <p:spPr>
          <a:xfrm>
            <a:off x="1397160" y="3863880"/>
            <a:ext cx="1800000" cy="1008000"/>
          </a:xfrm>
          <a:prstGeom prst="rect">
            <a:avLst/>
          </a:prstGeom>
          <a:ln w="0">
            <a:noFill/>
          </a:ln>
        </p:spPr>
      </p:pic>
      <p:sp>
        <p:nvSpPr>
          <p:cNvPr id="955" name="Text Box 7"/>
          <p:cNvSpPr/>
          <p:nvPr/>
        </p:nvSpPr>
        <p:spPr>
          <a:xfrm>
            <a:off x="1139400" y="2421000"/>
            <a:ext cx="1948680" cy="1191240"/>
          </a:xfrm>
          <a:prstGeom prst="rect">
            <a:avLst/>
          </a:prstGeom>
          <a:solidFill>
            <a:srgbClr val="f5f5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9d8ec"/>
                </a:solidFill>
                <a:latin typeface="Century Gothic"/>
                <a:ea typeface="黑体"/>
              </a:rPr>
              <a:t>la</a:t>
            </a:r>
            <a:r>
              <a:rPr b="0" lang="en-US" sz="7200" spc="-1" strike="noStrike">
                <a:solidFill>
                  <a:srgbClr val="d9d8ec"/>
                </a:solidFill>
                <a:latin typeface="Arial"/>
              </a:rPr>
              <a:t>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图片 6" descr="5AA54T64MIT0"/>
          <p:cNvPicPr/>
          <p:nvPr/>
        </p:nvPicPr>
        <p:blipFill>
          <a:blip r:embed="rId2"/>
          <a:stretch/>
        </p:blipFill>
        <p:spPr>
          <a:xfrm>
            <a:off x="3821040" y="3460680"/>
            <a:ext cx="2479680" cy="1860480"/>
          </a:xfrm>
          <a:prstGeom prst="rect">
            <a:avLst/>
          </a:prstGeom>
          <a:ln w="0">
            <a:noFill/>
          </a:ln>
        </p:spPr>
      </p:pic>
      <p:sp>
        <p:nvSpPr>
          <p:cNvPr id="957" name="Text Box 7"/>
          <p:cNvSpPr/>
          <p:nvPr/>
        </p:nvSpPr>
        <p:spPr>
          <a:xfrm>
            <a:off x="6197040" y="3019320"/>
            <a:ext cx="2431800" cy="1191240"/>
          </a:xfrm>
          <a:prstGeom prst="rect">
            <a:avLst/>
          </a:prstGeom>
          <a:solidFill>
            <a:srgbClr val="f5f5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ff"/>
                </a:solidFill>
                <a:latin typeface="Century Gothic"/>
                <a:ea typeface="黑体"/>
              </a:rPr>
              <a:t>xia</a:t>
            </a:r>
            <a:r>
              <a:rPr b="0" lang="en-US" sz="7200" spc="-1" strike="noStrike">
                <a:solidFill>
                  <a:srgbClr val="ff66ff"/>
                </a:solidFill>
                <a:latin typeface="Arial"/>
              </a:rPr>
              <a:t>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图片 7" descr="1970043361999263943"/>
          <p:cNvPicPr/>
          <p:nvPr/>
        </p:nvPicPr>
        <p:blipFill>
          <a:blip r:embed="rId3"/>
          <a:stretch/>
        </p:blipFill>
        <p:spPr>
          <a:xfrm>
            <a:off x="3683160" y="76320"/>
            <a:ext cx="2073240" cy="1555560"/>
          </a:xfrm>
          <a:prstGeom prst="rect">
            <a:avLst/>
          </a:prstGeom>
          <a:ln w="0">
            <a:noFill/>
          </a:ln>
        </p:spPr>
      </p:pic>
      <p:sp>
        <p:nvSpPr>
          <p:cNvPr id="959" name="Text Box 7"/>
          <p:cNvSpPr/>
          <p:nvPr/>
        </p:nvSpPr>
        <p:spPr>
          <a:xfrm>
            <a:off x="3655440" y="1449360"/>
            <a:ext cx="2619000" cy="1557000"/>
          </a:xfrm>
          <a:prstGeom prst="rect">
            <a:avLst/>
          </a:prstGeom>
          <a:solidFill>
            <a:srgbClr val="f5f5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9d8ec"/>
                </a:solidFill>
                <a:latin typeface="Century Gothic"/>
                <a:ea typeface="黑体"/>
              </a:rPr>
              <a:t>yi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7"/>
          <p:cNvSpPr/>
          <p:nvPr/>
        </p:nvSpPr>
        <p:spPr>
          <a:xfrm>
            <a:off x="2662200" y="1239840"/>
            <a:ext cx="2427120" cy="1191240"/>
          </a:xfrm>
          <a:prstGeom prst="rect">
            <a:avLst/>
          </a:prstGeom>
          <a:solidFill>
            <a:srgbClr val="f5f5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9d8ec"/>
                </a:solidFill>
                <a:latin typeface="Century Gothic"/>
                <a:ea typeface="黑体"/>
              </a:rPr>
              <a:t>ho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图片 1" descr="Dragon"/>
          <p:cNvPicPr/>
          <p:nvPr/>
        </p:nvPicPr>
        <p:blipFill>
          <a:blip r:embed="rId1"/>
          <a:stretch/>
        </p:blipFill>
        <p:spPr>
          <a:xfrm>
            <a:off x="1811160" y="2124000"/>
            <a:ext cx="2229120" cy="1716120"/>
          </a:xfrm>
          <a:prstGeom prst="rect">
            <a:avLst/>
          </a:prstGeom>
          <a:ln w="0">
            <a:noFill/>
          </a:ln>
        </p:spPr>
      </p:pic>
      <p:sp>
        <p:nvSpPr>
          <p:cNvPr id="962" name="Text Box 7"/>
          <p:cNvSpPr/>
          <p:nvPr/>
        </p:nvSpPr>
        <p:spPr>
          <a:xfrm>
            <a:off x="968760" y="3746520"/>
            <a:ext cx="2098080" cy="1191240"/>
          </a:xfrm>
          <a:prstGeom prst="rect">
            <a:avLst/>
          </a:prstGeom>
          <a:solidFill>
            <a:srgbClr val="f5f5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9d8ec"/>
                </a:solidFill>
                <a:latin typeface="Century Gothic"/>
                <a:ea typeface="黑体"/>
              </a:rPr>
              <a:t>lo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图片 2" descr="161647_4cb56aef1cc26"/>
          <p:cNvPicPr/>
          <p:nvPr/>
        </p:nvPicPr>
        <p:blipFill>
          <a:blip r:embed="rId2"/>
          <a:stretch/>
        </p:blipFill>
        <p:spPr>
          <a:xfrm>
            <a:off x="361800" y="1612800"/>
            <a:ext cx="1731960" cy="15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Text Box 4"/>
          <p:cNvSpPr/>
          <p:nvPr/>
        </p:nvSpPr>
        <p:spPr>
          <a:xfrm>
            <a:off x="1117440" y="1330200"/>
            <a:ext cx="662472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宋体"/>
              </a:rPr>
              <a:t>小手肮脏</a:t>
            </a: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ɑng ɑng ɑng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宋体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宋体"/>
              </a:rPr>
              <a:t>打开电灯</a:t>
            </a: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eng eng eng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宋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宋体"/>
              </a:rPr>
              <a:t>老鹰飞翔</a:t>
            </a: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ing  ing  ing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宋体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宋体"/>
              </a:rPr>
              <a:t>天上彩虹</a:t>
            </a: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ong ong ong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宋体"/>
              </a:rPr>
              <a:t>。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 Box 3"/>
          <p:cNvSpPr/>
          <p:nvPr/>
        </p:nvSpPr>
        <p:spPr>
          <a:xfrm flipH="1">
            <a:off x="1305000" y="977760"/>
            <a:ext cx="586728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比一比，读一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Group 4"/>
          <p:cNvGrpSpPr/>
          <p:nvPr/>
        </p:nvGrpSpPr>
        <p:grpSpPr>
          <a:xfrm>
            <a:off x="689760" y="1901880"/>
            <a:ext cx="2036880" cy="3004560"/>
            <a:chOff x="689760" y="1901880"/>
            <a:chExt cx="2036880" cy="3004560"/>
          </a:xfrm>
        </p:grpSpPr>
        <p:sp>
          <p:nvSpPr>
            <p:cNvPr id="967" name="Rectangle 5"/>
            <p:cNvSpPr/>
            <p:nvPr/>
          </p:nvSpPr>
          <p:spPr>
            <a:xfrm>
              <a:off x="689760" y="3349440"/>
              <a:ext cx="2036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ff"/>
                  </a:solidFill>
                  <a:latin typeface="Times New Roman"/>
                </a:rPr>
                <a:t>ɑnɡ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6"/>
            <p:cNvSpPr/>
            <p:nvPr/>
          </p:nvSpPr>
          <p:spPr>
            <a:xfrm>
              <a:off x="932760" y="1901880"/>
              <a:ext cx="1427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ff"/>
                  </a:solidFill>
                  <a:latin typeface="Times New Roman"/>
                </a:rPr>
                <a:t>ɑn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Group 7"/>
          <p:cNvGrpSpPr/>
          <p:nvPr/>
        </p:nvGrpSpPr>
        <p:grpSpPr>
          <a:xfrm>
            <a:off x="3198960" y="1901880"/>
            <a:ext cx="1941120" cy="3080880"/>
            <a:chOff x="3198960" y="1901880"/>
            <a:chExt cx="1941120" cy="3080880"/>
          </a:xfrm>
        </p:grpSpPr>
        <p:sp>
          <p:nvSpPr>
            <p:cNvPr id="970" name="Rectangle 8"/>
            <p:cNvSpPr/>
            <p:nvPr/>
          </p:nvSpPr>
          <p:spPr>
            <a:xfrm>
              <a:off x="3198960" y="3425760"/>
              <a:ext cx="1941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ff"/>
                  </a:solidFill>
                  <a:latin typeface="Times New Roman"/>
                </a:rPr>
                <a:t>enɡ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9"/>
            <p:cNvSpPr/>
            <p:nvPr/>
          </p:nvSpPr>
          <p:spPr>
            <a:xfrm>
              <a:off x="3274920" y="1901880"/>
              <a:ext cx="1331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ff"/>
                  </a:solidFill>
                  <a:latin typeface="Times New Roman"/>
                </a:rPr>
                <a:t>en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Group 10"/>
          <p:cNvGrpSpPr/>
          <p:nvPr/>
        </p:nvGrpSpPr>
        <p:grpSpPr>
          <a:xfrm>
            <a:off x="5756400" y="1771560"/>
            <a:ext cx="2163600" cy="3309480"/>
            <a:chOff x="5756400" y="1771560"/>
            <a:chExt cx="2163600" cy="3309480"/>
          </a:xfrm>
        </p:grpSpPr>
        <p:sp>
          <p:nvSpPr>
            <p:cNvPr id="973" name="Rectangle 11"/>
            <p:cNvSpPr/>
            <p:nvPr/>
          </p:nvSpPr>
          <p:spPr>
            <a:xfrm>
              <a:off x="5756400" y="3524040"/>
              <a:ext cx="2163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ff"/>
                  </a:solidFill>
                  <a:latin typeface="Times New Roman"/>
                </a:rPr>
                <a:t>inɡ</a:t>
              </a:r>
              <a:r>
                <a:rPr b="0" lang="en-US" sz="11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5910120" y="1771560"/>
              <a:ext cx="1128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ff"/>
                  </a:solidFill>
                  <a:latin typeface="Times New Roman"/>
                </a:rPr>
                <a:t>in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Text Box 3"/>
          <p:cNvSpPr/>
          <p:nvPr/>
        </p:nvSpPr>
        <p:spPr>
          <a:xfrm>
            <a:off x="173160" y="803160"/>
            <a:ext cx="10666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z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767ff"/>
                </a:solidFill>
                <a:latin typeface="Times New Roman"/>
              </a:rPr>
              <a:t>ch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Group 4"/>
          <p:cNvGrpSpPr/>
          <p:nvPr/>
        </p:nvGrpSpPr>
        <p:grpSpPr>
          <a:xfrm>
            <a:off x="1315800" y="1641600"/>
            <a:ext cx="1143360" cy="2590560"/>
            <a:chOff x="1315800" y="1641600"/>
            <a:chExt cx="1143360" cy="2590560"/>
          </a:xfrm>
        </p:grpSpPr>
        <p:grpSp>
          <p:nvGrpSpPr>
            <p:cNvPr id="977" name=""/>
            <p:cNvGrpSpPr/>
            <p:nvPr/>
          </p:nvGrpSpPr>
          <p:grpSpPr>
            <a:xfrm>
              <a:off x="1316160" y="2860560"/>
              <a:ext cx="1143000" cy="360"/>
              <a:chOff x="1316160" y="2860560"/>
              <a:chExt cx="1143000" cy="360"/>
            </a:xfrm>
          </p:grpSpPr>
          <p:sp>
            <p:nvSpPr>
              <p:cNvPr id="978" name="Line 5"/>
              <p:cNvSpPr/>
              <p:nvPr/>
            </p:nvSpPr>
            <p:spPr>
              <a:xfrm>
                <a:off x="1316160" y="2860560"/>
                <a:ext cx="1143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 txBox="1"/>
              <p:nvPr/>
            </p:nvSpPr>
            <p:spPr>
              <a:xfrm>
                <a:off x="1316160" y="2860560"/>
                <a:ext cx="11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1316160" y="1641600"/>
              <a:ext cx="1143000" cy="1218960"/>
              <a:chOff x="1316160" y="1641600"/>
              <a:chExt cx="1143000" cy="1218960"/>
            </a:xfrm>
          </p:grpSpPr>
          <p:sp>
            <p:nvSpPr>
              <p:cNvPr id="981" name="Line 6"/>
              <p:cNvSpPr/>
              <p:nvPr/>
            </p:nvSpPr>
            <p:spPr>
              <a:xfrm>
                <a:off x="1316160" y="1641600"/>
                <a:ext cx="1143000" cy="1218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 txBox="1"/>
              <p:nvPr/>
            </p:nvSpPr>
            <p:spPr>
              <a:xfrm>
                <a:off x="1316160" y="1641600"/>
                <a:ext cx="1143000" cy="121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1315800" y="2860560"/>
              <a:ext cx="1143360" cy="1371600"/>
              <a:chOff x="1315800" y="2860560"/>
              <a:chExt cx="1143360" cy="1371600"/>
            </a:xfrm>
          </p:grpSpPr>
          <p:sp>
            <p:nvSpPr>
              <p:cNvPr id="984" name="Line 7"/>
              <p:cNvSpPr/>
              <p:nvPr/>
            </p:nvSpPr>
            <p:spPr>
              <a:xfrm flipH="1">
                <a:off x="1315800" y="2860560"/>
                <a:ext cx="1143000" cy="1371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 txBox="1"/>
              <p:nvPr/>
            </p:nvSpPr>
            <p:spPr>
              <a:xfrm>
                <a:off x="1316160" y="2860560"/>
                <a:ext cx="1143000" cy="137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6" name="Rectangle 8"/>
          <p:cNvSpPr/>
          <p:nvPr/>
        </p:nvSpPr>
        <p:spPr>
          <a:xfrm>
            <a:off x="2248920" y="1870200"/>
            <a:ext cx="243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Century"/>
              </a:rPr>
              <a:t>ɑn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9"/>
          <p:cNvSpPr/>
          <p:nvPr/>
        </p:nvSpPr>
        <p:spPr>
          <a:xfrm>
            <a:off x="4973760" y="498600"/>
            <a:ext cx="79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ɡ</a:t>
            </a:r>
            <a:r>
              <a:rPr b="0" lang="en-US" sz="9600" spc="-1" strike="noStrike">
                <a:solidFill>
                  <a:srgbClr val="6767ff"/>
                </a:solidFill>
                <a:latin typeface="Times New Roman"/>
              </a:rPr>
              <a:t>k</a:t>
            </a:r>
            <a:r>
              <a:rPr b="0" lang="en-US" sz="96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Group 10"/>
          <p:cNvGrpSpPr/>
          <p:nvPr/>
        </p:nvGrpSpPr>
        <p:grpSpPr>
          <a:xfrm>
            <a:off x="6040080" y="1793880"/>
            <a:ext cx="1143360" cy="2590560"/>
            <a:chOff x="6040080" y="1793880"/>
            <a:chExt cx="1143360" cy="2590560"/>
          </a:xfrm>
        </p:grpSpPr>
        <p:grpSp>
          <p:nvGrpSpPr>
            <p:cNvPr id="989" name=""/>
            <p:cNvGrpSpPr/>
            <p:nvPr/>
          </p:nvGrpSpPr>
          <p:grpSpPr>
            <a:xfrm>
              <a:off x="6040440" y="3012840"/>
              <a:ext cx="1143000" cy="360"/>
              <a:chOff x="6040440" y="3012840"/>
              <a:chExt cx="1143000" cy="360"/>
            </a:xfrm>
          </p:grpSpPr>
          <p:sp>
            <p:nvSpPr>
              <p:cNvPr id="990" name="Line 11"/>
              <p:cNvSpPr/>
              <p:nvPr/>
            </p:nvSpPr>
            <p:spPr>
              <a:xfrm>
                <a:off x="6040440" y="3012840"/>
                <a:ext cx="1143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 txBox="1"/>
              <p:nvPr/>
            </p:nvSpPr>
            <p:spPr>
              <a:xfrm>
                <a:off x="6040440" y="3012840"/>
                <a:ext cx="11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6040440" y="1793880"/>
              <a:ext cx="1143000" cy="1218960"/>
              <a:chOff x="6040440" y="1793880"/>
              <a:chExt cx="1143000" cy="1218960"/>
            </a:xfrm>
          </p:grpSpPr>
          <p:sp>
            <p:nvSpPr>
              <p:cNvPr id="993" name="Line 12"/>
              <p:cNvSpPr/>
              <p:nvPr/>
            </p:nvSpPr>
            <p:spPr>
              <a:xfrm>
                <a:off x="6040440" y="1793880"/>
                <a:ext cx="1143000" cy="1218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 txBox="1"/>
              <p:nvPr/>
            </p:nvSpPr>
            <p:spPr>
              <a:xfrm>
                <a:off x="6040440" y="1793880"/>
                <a:ext cx="1143000" cy="121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6040080" y="3012840"/>
              <a:ext cx="1143360" cy="1371600"/>
              <a:chOff x="6040080" y="3012840"/>
              <a:chExt cx="1143360" cy="1371600"/>
            </a:xfrm>
          </p:grpSpPr>
          <p:sp>
            <p:nvSpPr>
              <p:cNvPr id="996" name="Line 13"/>
              <p:cNvSpPr/>
              <p:nvPr/>
            </p:nvSpPr>
            <p:spPr>
              <a:xfrm flipH="1">
                <a:off x="6040080" y="3012840"/>
                <a:ext cx="1143000" cy="1371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 txBox="1"/>
              <p:nvPr/>
            </p:nvSpPr>
            <p:spPr>
              <a:xfrm>
                <a:off x="6040440" y="3012840"/>
                <a:ext cx="1143000" cy="137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8" name="Rectangle 14"/>
          <p:cNvSpPr/>
          <p:nvPr/>
        </p:nvSpPr>
        <p:spPr>
          <a:xfrm>
            <a:off x="7219800" y="2098800"/>
            <a:ext cx="164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cc"/>
                </a:solidFill>
                <a:latin typeface="Times New Roman"/>
              </a:rPr>
              <a:t>en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文本框 1"/>
          <p:cNvSpPr/>
          <p:nvPr/>
        </p:nvSpPr>
        <p:spPr>
          <a:xfrm>
            <a:off x="173160" y="120600"/>
            <a:ext cx="14270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8T07:02:00Z</dcterms:created>
  <dc:creator>Administrator</dc:creator>
  <dc:description/>
  <dc:language>en-US</dc:language>
  <cp:lastModifiedBy>万润仪器贸易公司</cp:lastModifiedBy>
  <dcterms:modified xsi:type="dcterms:W3CDTF">2020-08-24T01:45:57Z</dcterms:modified>
  <cp:revision>20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